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70199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7000" y="685440"/>
            <a:ext cx="4464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F97C-AE48-4255-903E-BCEE4F092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1CF3-F6AA-46CA-8977-8CC57E9382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506D-2BF1-4FF9-BCED-3D1817B3FB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C35-E252-42D7-8978-C82F397F4C8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F65F-6B63-4453-836F-E0FA50B8AE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7000" y="685800"/>
            <a:ext cx="4464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BEC0-5AE5-4499-9B66-960344FBA9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47C-2885-4822-BB24-483F8BC8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7D48-18A9-4880-8F4D-26511E0B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061-C233-45EF-83EB-EAE55BBC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3836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02C-2F3F-4777-974F-6C4DE930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3AE-2843-4A02-B6A0-A602248D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C69-AC36-4079-9B18-6CA855EE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1912-F5A6-4C07-9E82-69668E1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A4B-A407-46AE-8D27-A8AEADD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1160"/>
            <a:ext cx="8229600" cy="543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A7D-FF33-49C5-B4B0-4F6E0EF8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27D-DE9C-461B-9B8C-217D66F7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1D2-48DC-4BC7-9624-0C925C5C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3836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D0E-B329-413F-8522-FDD460D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836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93960"/>
            <a:ext cx="28958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3960"/>
            <a:ext cx="2133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AC23-7B91-4EFB-B836-73D03EB51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kalininskayscho.ucoz.ru/foto/Internet.png"/>
          <p:cNvPicPr/>
          <p:nvPr/>
        </p:nvPicPr>
        <p:blipFill>
          <a:blip r:embed="rId1"/>
          <a:stretch/>
        </p:blipFill>
        <p:spPr>
          <a:xfrm>
            <a:off x="1547640" y="2575080"/>
            <a:ext cx="4692960" cy="403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908000" y="198360"/>
            <a:ext cx="583272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зопасность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ей в сети 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(кибербуллинг)</a:t>
            </a:r>
            <a:endParaRPr b="1" i="1" lang="en-US" sz="40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611280" y="270000"/>
            <a:ext cx="81151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тистические данные о 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пространенности явления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бербуллинг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426960" y="1854360"/>
            <a:ext cx="830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в области кибербуллинга, проведенное Pew Research Center в 2014 году, показало, что 40% пользователей глобальной сети хотя бы раз в жизни сталкивались с буллингом в Интернете на собственном опы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73% опрошенных пользователей сталкивались с онлайн-буллингом вообще (становились жертвами сами или были свидетелями буллинг в отношении других люд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еднем каждый шестой подросток хотя бы раз в жизни занимался нападками, оскорблениями, унижениями или насмешками в глобальной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036800" y="189000"/>
            <a:ext cx="7716600" cy="1566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611280" y="2494080"/>
            <a:ext cx="8137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плеск кибербуллинга приходится на среднюю школу. В основном жертвы и агрессоры имеют возраст от 10 до 15 лет. Впоследствии уровень агрессии спада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м не менее преследованию могут подвергаться лица всех возрастных категор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1332000" y="270000"/>
            <a:ext cx="64101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ы кибербуллинга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684360" y="1849320"/>
            <a:ext cx="8135640" cy="40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леймин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аррасмент (гриферство, троллинг, киберсталкин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екстин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ев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ачу себя за друго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крытие секретов и мошенниче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684360" y="846000"/>
            <a:ext cx="45720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лейминг (англ. flaming — воспламенение), который начинается с оскорблений и перерастает в быстрый эмоциональный обмен репликами, обычно публично, реже в частной перепис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5364000" y="3484440"/>
            <a:ext cx="33116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7"/>
          <p:cNvSpPr/>
          <p:nvPr/>
        </p:nvSpPr>
        <p:spPr>
          <a:xfrm>
            <a:off x="324000" y="5454720"/>
            <a:ext cx="82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465120" y="277920"/>
            <a:ext cx="3600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ссмент (англ. harassment — притеснение): это адресованные конкретному человеку обычно настойчивые или повторяющиеся слова и действия, которые вызывают у него раздражение, тревогу и стресс и при этом не имеют разумной ц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4932360" y="284040"/>
            <a:ext cx="4032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иберхарассмент обычно выражается в повторяющихся оскорбительных сообщениях жертве, от которых она чувствует себя морально уничтоженной, которым она не может ответить по причине страха или невозможности идентифицировать преследователя, а иногда к тому же вынуждена оплачивать полученные со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1"/>
          <a:stretch/>
        </p:blipFill>
        <p:spPr>
          <a:xfrm>
            <a:off x="324000" y="4665600"/>
            <a:ext cx="432252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755640" y="704880"/>
            <a:ext cx="7993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иферы (griefers) — игроки, целенаправленно преследующие других игроков в многопользовательских онлайн-играх с целью отнять удовольствие от иг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"/>
          <p:cNvPicPr/>
          <p:nvPr/>
        </p:nvPicPr>
        <p:blipFill>
          <a:blip r:embed="rId1"/>
          <a:stretch/>
        </p:blipFill>
        <p:spPr>
          <a:xfrm>
            <a:off x="1692360" y="3146400"/>
            <a:ext cx="5759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11280" y="414360"/>
            <a:ext cx="813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роллинг» — публикация информации, которая вызывает тревогу, гнев или стыд. Публикуют негативную, вызывающую тревогу информацию на веб-сайтах, страницах социальных сетей, даже на мемориальных страницах, посвященных умершим людям, провоцируя сильную эмоциональную реа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511280" y="2303640"/>
            <a:ext cx="5653080" cy="42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468360" y="558720"/>
            <a:ext cx="84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иберсталкинг (cyberstalking; от англ. to stalk — преследовать, выслеживать) — использование электронных коммуникаций для преследования жертвы через повторяющиеся вызывающие угрозы противозаконных действий или повреждений, жертвами которых могут стать получатель сообщений или члены его семь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1116000" y="3006720"/>
            <a:ext cx="6912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04720" y="774720"/>
            <a:ext cx="40672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екстинг (sexting, от англ. sex — секс и text — текст) — это рассылка или публикация фото- и видеоматериалов с обнаженными и полуобнаженными людь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Секстинг» — процесс обнародования материалов с изображением или видео обнаженных люде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4986360" y="1351080"/>
            <a:ext cx="367344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95280" y="341280"/>
            <a:ext cx="3456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ие клеветы (denigration): это публикация и рассылка унижающей и ложной информации о человеке, его искаженных изображений, в частности в сексуализированном и/или наносящем вред его репутации виде,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013360" y="341280"/>
            <a:ext cx="365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эм-буки – тетради, в которых одноклассники размещают различные рейтинги и комментарии — «кто самая красивая девушка в классе», «кто одевается хуже всех» и т.п. Соответственно, «онлайн слэм-буки» — это созданные для развлечения сайты, где одноклассники публикуют подобные рейтинги и комментарии, часто грубые и неприятные, например, «Худшая парочка класс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476280" y="3767040"/>
            <a:ext cx="41148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1927080"/>
            <a:ext cx="3578040" cy="39466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55480" y="5210280"/>
            <a:ext cx="3014640" cy="68256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780000" y="2143080"/>
            <a:ext cx="496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позволяет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ться с друз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ь доступ к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ься, встречаться с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вать н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1763640" y="270000"/>
            <a:ext cx="6372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нет - мир широких 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можностей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395280" y="55872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скрытие секретов и мошенничество включает распространение в сети личной, секретной, конфиденциальной информации о жертв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rcRect l="22894" t="0" r="20482" b="0"/>
          <a:stretch/>
        </p:blipFill>
        <p:spPr>
          <a:xfrm>
            <a:off x="4824360" y="560520"/>
            <a:ext cx="392436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7"/>
          <p:cNvSpPr txBox="1"/>
          <p:nvPr/>
        </p:nvSpPr>
        <p:spPr>
          <a:xfrm>
            <a:off x="1655640" y="414360"/>
            <a:ext cx="5832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тегории детей, 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нимающихся кибербуллингом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395280" y="1494000"/>
            <a:ext cx="8353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 «ангел мести» (ощущает себя правым, часто мстит за то, что сам оказался жертвой буллинга в школ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 «жаждущий власти» (похож на традиционного преследователя со школьного двора, хочет контроля, власти и авторитета, однако может быть меньше и слабее сверстников, либо может вымещать свою злость и беспомощность, оказавшись в состоянии уязвимост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 «противная девчонка» (может быть и девочкой, и мальчиком; занимается кибербуллингом ради развлечения, связанного с испугом и унижением других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 «неумышленные преследователи» (включаются в кибербуллинг по инерции вслед за полученными негативными сообщениями о ком-то, часто в результате косвенной травли, в которую их вовлекают как свидетелей и соучастников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9"/>
          <p:cNvSpPr txBox="1"/>
          <p:nvPr/>
        </p:nvSpPr>
        <p:spPr>
          <a:xfrm>
            <a:off x="420840" y="363600"/>
            <a:ext cx="830232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, способствующие росту и развитию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нного явления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420840" y="1525680"/>
            <a:ext cx="83023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тремительный рост информационных технологи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оступность информации во всех ее проявления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атентность кибербуллинга для взрослы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убликация в социальных сетях своей личной информац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овокационные действия самих жерт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знаказанность со стороны администрации сайтов и зако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тсутствие компьютерной компетентности, киберэтики у подростков вследствие недостаточного их информирования о безопасности при пользовании интернет технолог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"/>
          <p:cNvPicPr/>
          <p:nvPr/>
        </p:nvPicPr>
        <p:blipFill>
          <a:blip r:embed="rId1"/>
          <a:stretch/>
        </p:blipFill>
        <p:spPr>
          <a:xfrm>
            <a:off x="485640" y="2286000"/>
            <a:ext cx="8172720" cy="401796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"/>
          <p:cNvSpPr txBox="1"/>
          <p:nvPr/>
        </p:nvSpPr>
        <p:spPr>
          <a:xfrm>
            <a:off x="1366920" y="558720"/>
            <a:ext cx="64101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ttps://classgames.ru/</a:t>
            </a:r>
            <a:endParaRPr b="0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9280" y="3727080"/>
            <a:ext cx="799308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Надеюсь, что предоставленная информация, помогающая узнать об опасностях в Интернете и о том, как им противостоять будет в дальнейшем полезна вам и вашим детя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627280" y="485640"/>
            <a:ext cx="3990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заключении...</a:t>
            </a:r>
            <a:endParaRPr b="1" i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95280" y="1206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Ребенок должен усвоить мысль, что Интернет – это друг, и если правильно с ним «дружить», можно извлечь из этого много пользы. А правильно «дружить» с ним научить может только взрос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2" descr=""/>
          <p:cNvPicPr/>
          <p:nvPr/>
        </p:nvPicPr>
        <p:blipFill>
          <a:blip r:embed="rId1"/>
          <a:srcRect l="0" t="7955" r="0" b="0"/>
          <a:stretch/>
        </p:blipFill>
        <p:spPr>
          <a:xfrm>
            <a:off x="1060560" y="279360"/>
            <a:ext cx="7021440" cy="64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280" y="1638000"/>
            <a:ext cx="828036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годом сообщество российских интернет-пользователей молоде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1258920" y="414360"/>
            <a:ext cx="65055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ти и подростки - активные 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льзователи Интернета</a:t>
            </a:r>
            <a:endParaRPr b="1" i="1" lang="en-US" sz="3200" spc="1" strike="noStrike">
              <a:ln w="9360">
                <a:solidFill>
                  <a:srgbClr val="000066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900000" y="2498760"/>
            <a:ext cx="7972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87280" y="414360"/>
            <a:ext cx="856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овам Р. Махаффи, исследователя криминолога из отдела киберпреступлений преступлений с использованием информационных технологий Министерства юстиции штата Миссисипи, - Интернет — это Дикий, Дикий Запад XXI в., в котором постоянно встречаются волнующие приключения, опасности и бандиты: хотя пули, летающие в Интернете, ненастоящие, они все равно могут ра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979640" y="286236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9"/>
          <p:cNvGrpSpPr/>
          <p:nvPr/>
        </p:nvGrpSpPr>
        <p:grpSpPr>
          <a:xfrm>
            <a:off x="7236000" y="5743440"/>
            <a:ext cx="1079280" cy="1079640"/>
            <a:chOff x="7236000" y="5743440"/>
            <a:chExt cx="1079280" cy="1079640"/>
          </a:xfrm>
        </p:grpSpPr>
        <p:sp>
          <p:nvSpPr>
            <p:cNvPr id="60" name="Oval 17"/>
            <p:cNvSpPr/>
            <p:nvPr/>
          </p:nvSpPr>
          <p:spPr>
            <a:xfrm>
              <a:off x="7236000" y="5743440"/>
              <a:ext cx="1079280" cy="1079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7451640" y="6175440"/>
              <a:ext cx="647280" cy="287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оугольник 1"/>
          <p:cNvSpPr/>
          <p:nvPr/>
        </p:nvSpPr>
        <p:spPr>
          <a:xfrm>
            <a:off x="4950000" y="701640"/>
            <a:ext cx="379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ая безопасность — как состояние сохранности психики предполагает поддержание определенного баланса между негативными воздействиями на человека окружающей его среды и его устойчивостью, способностью преодолеть такие воздействия собственными ресурсами или с помощью защитных факторов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250920" y="701640"/>
            <a:ext cx="39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зопасность» определяется как состояние защищенности жизненно важных интересов личности, общества и государства от внутренних и внешних уг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"/>
          <p:cNvPicPr/>
          <p:nvPr/>
        </p:nvPicPr>
        <p:blipFill>
          <a:blip r:embed="rId1"/>
          <a:stretch/>
        </p:blipFill>
        <p:spPr>
          <a:xfrm>
            <a:off x="539640" y="2722680"/>
            <a:ext cx="379908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611280" y="270000"/>
            <a:ext cx="8115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ятие буллинг и кибербуллинг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611280" y="201780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буллингом понимается преднамеренное систематически повторяющееся агрессивное поведение, включающее неравенство социальной власти или физическо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5148360" y="2019240"/>
            <a:ext cx="357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кибербуллингом понимается намеренное, опосредованное и агрессивное действие либо поведение, осуществляемое группой либо индивидом с применением информационных и коммуникативных технологий в качестве инструмента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tretch/>
        </p:blipFill>
        <p:spPr>
          <a:xfrm>
            <a:off x="611280" y="3990960"/>
            <a:ext cx="412272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539640" y="414360"/>
            <a:ext cx="8064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бенность информационных процессов в Интернете состоит в том, что оттуда ничего никуда не исчезае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потому даже непроверенная стигматизирующа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от греч. —«ярлык, клеймо») информация остается там навсег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2286000" y="3738600"/>
            <a:ext cx="423072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"/>
          <p:cNvSpPr txBox="1"/>
          <p:nvPr/>
        </p:nvSpPr>
        <p:spPr>
          <a:xfrm>
            <a:off x="611280" y="270000"/>
            <a:ext cx="799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рты кибербуллинга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Прямоугольник 1"/>
          <p:cNvSpPr/>
          <p:nvPr/>
        </p:nvSpPr>
        <p:spPr>
          <a:xfrm>
            <a:off x="630360" y="1566720"/>
            <a:ext cx="62467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невременность и повт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онимность преследовател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истант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льшое количество свидетелей и их аноним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осредован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4" descr=""/>
          <p:cNvPicPr/>
          <p:nvPr/>
        </p:nvPicPr>
        <p:blipFill>
          <a:blip r:embed="rId1"/>
          <a:stretch/>
        </p:blipFill>
        <p:spPr>
          <a:xfrm>
            <a:off x="5003640" y="4122720"/>
            <a:ext cx="394200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611280" y="270000"/>
            <a:ext cx="8208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тистические данные о 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пространенности явления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бербуллинг</a:t>
            </a:r>
            <a:endParaRPr b="1" i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4419720" y="3357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324000" y="2092320"/>
            <a:ext cx="864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российским данным, 78% детей (т.е. практически все горожане) от 6 до 18 лет ежедневно пользуются Интерн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72% подростков имеют персональный профиль в социальных сет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80% российских детей выкладывают в сеть свою фамилию, точный возраст, номер школы, и у трети опрошенных детей настройки профиля позволяют всем видеть личную информацию о пользователе; за рубежом 62% детей выкладывают в общий доступ личные фотограф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суждении гипотетического поведения при возникновении неприятной ситуации в Интернете 77% 6–9- летних детей отвечают, что обратятся за помощью к родителям, а среди 15–17-летних 54% планируют справляться с проблемой самостоятельно, при этом не указывая, как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19:23:27Z</dcterms:created>
  <dc:creator>user</dc:creator>
  <dc:description/>
  <dc:language>en-US</dc:language>
  <cp:lastModifiedBy>User</cp:lastModifiedBy>
  <dcterms:modified xsi:type="dcterms:W3CDTF">2022-09-29T05:49:32Z</dcterms:modified>
  <cp:revision>95</cp:revision>
  <dc:subject/>
  <dc:title>Родителям о безопасности в Интерн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40000000000010243100207f6000400038000</vt:lpwstr>
  </property>
</Properties>
</file>